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EE2-E827-49D0-937E-D30C3962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486-B442-4C28-B489-675F538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0BF-43C7-45A1-A63C-5925D201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421-12BC-4DE1-ACD0-99A95D60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BD4-668C-4078-B649-2AC577A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1FF-E4E5-4F2D-B684-70201A8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E10-77CE-4A63-A055-316DE519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F32-586B-43D2-BFD3-282130C5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F03-49EA-4AD5-BCD1-3240340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738-3AEB-4F25-BF7F-FA0D07B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AB2-AADC-4A1D-B4AD-5D8FF5CE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96B-EBA7-4B80-8574-524143AF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2302-4EFC-48E9-8DFE-408A524F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4:39:16Z</dcterms:created>
  <dc:creator>Partners Information Systems</dc:creator>
  <dc:description/>
  <dc:language>en-US</dc:language>
  <cp:lastModifiedBy>Partners Information Systems</cp:lastModifiedBy>
  <dcterms:modified xsi:type="dcterms:W3CDTF">2008-04-29T14:39:38Z</dcterms:modified>
  <cp:revision>1</cp:revision>
  <dc:subject/>
  <dc:title>Slide 1</dc:title>
</cp:coreProperties>
</file>